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4C7F-685A-4090-B757-26DCBE791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76DA-5DB5-4CF4-82EA-DBC4774B5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4006-021E-4F21-8268-5FAAAC2A2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37D4-0AD1-4619-B69E-410E41CBA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621AE-CD2E-4EA2-AA6B-360B1975E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367F7-335A-47E4-91A9-232F387BC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04594-5F82-4F4C-93AD-7F2D6FD5F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AA3C5-3D2F-448B-867D-D30ACC28A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208BC-D587-4E26-BF20-47BCBC864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A26F1-7174-4B1B-BD56-49E91C047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92B24-5B64-4A33-A1F0-4029939C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3090-EA3E-4327-B77E-F8CB401C2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DFB73-12BB-4CF9-BEBE-22A22D0A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64356-385C-4D99-B913-4EB45CA6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2C94B-755A-43F6-95F2-CAFEB3F5A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81CC9-2EED-461A-AF60-C0D04FD18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65937-A934-44DC-A6B2-EFA50AE45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DE9F-CE2A-467C-86EA-71062C281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A4AE-40C3-424F-AAE7-15B143F21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AD5F-3E93-4C67-BE7F-88A5922BC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6DB7-92F3-45B3-BBBA-7CFA886E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528A-AD6D-49A3-9176-D7151409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BCB8-A06B-439C-A905-314042CE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238D-6CA0-4633-9D19-DAC21AA0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03D71-377B-4E56-ABDC-33B915C9419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D1F18-D92A-4363-ABB8-47B91F4167D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203480" y="2286000"/>
            <a:ext cx="351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9900"/>
                </a:solidFill>
                <a:uFillTx/>
                <a:latin typeface="Times New Roman"/>
              </a:rPr>
              <a:t>Cause and Effec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28800" y="3276720"/>
            <a:ext cx="60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Children picked up trash on the playgroun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12440" y="4267080"/>
            <a:ext cx="444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Why do you think this happened?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74880" y="518148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Did you have to rely on your knowledge of children, school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and playgrounds?  How did this help you to figure out wha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was going on in the story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57200" y="2581200"/>
            <a:ext cx="8978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The children picked up trash on the playgroun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Thank you for doing what I asked,” their teacher sai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2200" y="4460760"/>
            <a:ext cx="818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What happened?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How do you know who did it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It is always important to understand exactly WHY someth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happens in a story?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80880" y="2428920"/>
            <a:ext cx="8902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The children picked up trash on the playgroun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Thank you for doing what I asked,” their teacher sai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0320" y="4156200"/>
            <a:ext cx="750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Which part of this is the </a:t>
            </a:r>
            <a:r>
              <a:rPr b="1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cause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, the REASON something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happened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19000" y="5451480"/>
            <a:ext cx="763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Which part of this sentence is the </a:t>
            </a:r>
            <a:r>
              <a:rPr b="1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effect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?  The part of th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sentence that tells us what HAPPENED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8600" y="2228760"/>
            <a:ext cx="9083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Causes and Effects from </a:t>
            </a:r>
            <a:r>
              <a:rPr b="1" lang="en-US" sz="3200" spc="-1" strike="noStrike" u="sng">
                <a:solidFill>
                  <a:srgbClr val="ff9900"/>
                </a:solidFill>
                <a:uFillTx/>
                <a:latin typeface="Times New Roman"/>
              </a:rPr>
              <a:t>Tales of a Fourth Grad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Times New Roman"/>
              </a:rPr>
              <a:t>Nothing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 and </a:t>
            </a:r>
            <a:r>
              <a:rPr b="1" lang="en-US" sz="3200" spc="-1" strike="noStrike" u="sng">
                <a:solidFill>
                  <a:srgbClr val="ff9900"/>
                </a:solidFill>
                <a:uFillTx/>
                <a:latin typeface="Times New Roman"/>
              </a:rPr>
              <a:t>Super Fudge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7800" y="3927600"/>
            <a:ext cx="7881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        </a:t>
            </a:r>
            <a:r>
              <a:rPr b="1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Cause                                               Effect             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Fudge gets new sho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Peter gets a new lock on his do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The family moves to N.J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Peter has a class projec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Peter names his dog Turt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38480" y="4343400"/>
            <a:ext cx="0" cy="228600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57200" y="2133720"/>
            <a:ext cx="85186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Times New Roman"/>
              </a:rPr>
              <a:t>Ending Not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Usually it is easy to spot the effect, or wh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happened in a story.  When trying to figur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out what the cause of a specific effect in 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story, ALWAYS ASK THE WHY QUESTION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93280" y="5603760"/>
            <a:ext cx="842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You are now a certified Cause and Effect expert.  Now it’s you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job to spot causes and effects in your reading exercises!!!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11T08:52:29Z</dcterms:created>
  <dc:creator>User</dc:creator>
  <dc:description/>
  <dc:language>en-US</dc:language>
  <cp:lastModifiedBy>Rutherford County Schools</cp:lastModifiedBy>
  <dcterms:modified xsi:type="dcterms:W3CDTF">2007-04-21T15:17:32Z</dcterms:modified>
  <cp:revision>1</cp:revision>
  <dc:subject/>
  <dc:title>No Slide Title</dc:title>
</cp:coreProperties>
</file>